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F8AA5-E57B-4541-9651-C302EE10743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B34F-540D-4E07-B938-FD4DC94A5A81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1F9A1F-25C2-45B6-ACB7-11952C1AFB1A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237AADA-F2E4-44F4-A647-434AD075C629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71C05-03CE-4678-ACA0-0DB2015E1080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97B653-3E60-424E-8938-70B70E99246C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438399A7-2A1B-4156-9143-2BFF138396D0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55703-0A4F-416A-973C-FD05EA237DB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0DDDC4-B07F-4820-A20C-042804028A58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3FD3C64-6B6B-42D7-8A7F-D4E70820220F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BE6C0-4480-4835-9BF4-B52806F742DF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8F9F9A-390E-4147-992C-0DFC1792EA41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75EC9B5A-E677-4717-AE8C-6C930212BA85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0011F-B1DC-4BBB-83F9-DDC4612DA621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A05104-5ED1-4701-9520-4280F93E3FD8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D7CD1FA6-CF11-476D-8BEC-E8F0D2D13D1D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ED00D-39B0-4F9F-915E-62D619493C0A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0AE10F-A073-42C4-A003-23AEE513855B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DDED647A-8101-46C2-B69B-563A9105B17E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8E8-3AD0-4B23-8CA6-AF49931F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F55-F622-495C-9BEA-765FB2F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EA9-74A0-4E29-B441-15FF1472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BE2-2CFE-45E0-8782-7F02F924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C527-E46D-49FC-9DE3-4B4B7926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803C-E34E-4CF8-A588-AAD151E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51AD-4F6C-43A1-B1A3-8B429B2B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7F9-05DC-435C-8020-B313A350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3BDD-5247-41E8-B5EA-56CA2138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7C2-4C2E-4BAF-ADEB-9145D54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2444-DB5B-4C8F-830B-F13B2462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AAF-FB54-4321-8164-BA0D386E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7B31-A012-43DA-BABC-F3E11B12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08D-60D8-4767-9A55-698AC03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2530-118E-457C-943B-1B3E51F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C8F9-AB7D-4D75-89EB-A5577381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2D4F-37F3-44C9-8F00-2281A64B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AEF-BB37-4603-A877-35A1015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E22-67E0-499B-B549-C9539784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D0F-9B53-4765-9469-731B72C9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696-10B7-4078-AD44-D79BA643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589-FE91-47F3-844C-00CE6EE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16E-E501-451D-8B0D-5092F6F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31F-13B5-4226-8B38-72142DA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8b8b8b"/>
                </a:solidFill>
                <a:latin typeface="Calibri"/>
              </a:rPr>
              <a:t>Faça clique para editar o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CAD686-DC91-41DC-BBD7-A7E71725C8C0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72F73CCA-9784-4160-9FD1-D0DB20B17C46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A4379D-1596-40BF-8B09-925FE52B2B4D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2588EB50-5F3C-4799-8806-0CC493131A02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Marcador de Posição da Data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019240" cy="2019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428760" y="285840"/>
            <a:ext cx="82152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2000" spc="-1" strike="noStrike">
                <a:solidFill>
                  <a:srgbClr val="ffc000"/>
                </a:solidFill>
                <a:latin typeface="Arial"/>
                <a:ea typeface="Arial"/>
              </a:rPr>
              <a:t>Universidade de Trás-os-Montes e Alto Do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Arial"/>
              </a:rPr>
              <a:t>Desenvolvimento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Arial"/>
              </a:rPr>
              <a:t>Estud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Trabalho realiz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Cé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Dan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Fil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Jo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Lu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Vila Real, Ab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946920" y="928800"/>
            <a:ext cx="1339920" cy="111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1428840" y="242892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816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Grupo PORTUCEL/SOPORCEL:</a:t>
            </a: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Elaboração e Execução de Planos de Fogo Contro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Elaboração de Planos de Gestão Estratégica de Combustíve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Formaçã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816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Floresta Atlântica – SGFII, S.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Avaliação do perigo de incêndio e do potencial de defesa contra incên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Elaboração de cartografia de perigo de Incên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Elaboração de planos de gestão estratégica de combustíve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816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Centro de Emprego e Formação Profissional de Coim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Formação de Sapadores em Defesa da Floresta Contra Incên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Università di Napoli Frederico II /  Parco Nazionale del Cilento e Vallo di Diano – Itá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Consultoria e formação de técnicos no uso da técnica do fogo contro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Grupo TRAGSA – Espan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Cooperação e intercâmbio entre equipas de técnicos especialistas na análise de incênd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GAUF – Grupo de Análise e Uso do Fogo</a:t>
            </a:r>
            <a:br>
              <a:rPr sz="3200"/>
            </a:b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Missã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2214720"/>
            <a:ext cx="82296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Garantir apoio técnico à Autoridade Nacional de Protecção Civil (ANPC), em incêndios florestais nas fases de ataque ampliado e em apoio à gestão do fo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GAUF – Grupo de Análise e Uso do Fogo</a:t>
            </a:r>
            <a:br>
              <a:rPr sz="3200"/>
            </a:b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Objec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Apoiar o Comandante de Operações e Socorro (COS) na identificação de pontos críticos, de oportunidades de intervenção e no delineamento das estratégias de supressão de incêndios flores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68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Planear e executar operações de fogo de su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68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Apoio na definição, coordenação e execução de outras técnicas de su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68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Apoio à decisão na gestão do fog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4400" spc="-1" strike="noStrike">
                <a:solidFill>
                  <a:srgbClr val="009900"/>
                </a:solidFill>
                <a:latin typeface="Calibri"/>
              </a:rPr>
              <a:t>Intervenções GAUF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1197000"/>
          <a:ext cx="8686800" cy="5180040"/>
        </p:xfrm>
        <a:graphic>
          <a:graphicData uri="http://schemas.openxmlformats.org/drawingml/2006/table">
            <a:tbl>
              <a:tblPr/>
              <a:tblGrid>
                <a:gridCol w="1571760"/>
                <a:gridCol w="1224000"/>
                <a:gridCol w="639720"/>
                <a:gridCol w="598320"/>
                <a:gridCol w="584280"/>
                <a:gridCol w="566640"/>
                <a:gridCol w="554040"/>
                <a:gridCol w="625680"/>
                <a:gridCol w="555480"/>
                <a:gridCol w="614520"/>
                <a:gridCol w="1152360"/>
              </a:tblGrid>
              <a:tr h="3060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ISTRI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ÊS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T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ISTRI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B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JU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J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O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T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vei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ej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ag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aganç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imb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Gu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or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etú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iana do Caste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ila R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ise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8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09900"/>
                </a:solidFill>
                <a:latin typeface="Calibri"/>
              </a:rPr>
              <a:t>DISTRIBUIÇÃO ESPACIAL DAS INTERVENÇÕES POR DISTRITO*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6453000"/>
            <a:ext cx="822816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Calibri"/>
              </a:rPr>
              <a:t>(*) – Período de 2009-06-01 a 2009-10-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5327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Fogo controlado, área tratada pelos GAU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8160" cy="4524480"/>
        </p:xfrm>
        <a:graphic>
          <a:graphicData uri="http://schemas.openxmlformats.org/drawingml/2006/table"/>
        </a:graphic>
      </p:graphicFrame>
      <p:pic>
        <p:nvPicPr>
          <p:cNvPr id="139" name="Picture 115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850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5360" y="2362320"/>
            <a:ext cx="8694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000" spc="-1" strike="noStrike">
                <a:solidFill>
                  <a:srgbClr val="009900"/>
                </a:solidFill>
                <a:latin typeface="Calibri"/>
              </a:rPr>
              <a:t>A importância da GIFF no desenvolvimento r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080" y="1557360"/>
            <a:ext cx="9097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549360"/>
            <a:ext cx="82296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urge em  04/11/2008 e iniciou a actividade em 12/11/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m um capital social de 75000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m sede em Vila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No ano de 2009 teve um volume de negócios de 1.721.247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mprega actualmente 36 técnicos sup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81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Apoio as populações na queima de sobrantes florestais e agrícol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Criação de zonas de pastag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Protecção de bens florestais através do fogo controlado no Inverno ou combate aos incêndios florestais no Ver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600" spc="-1" strike="noStrike">
                <a:solidFill>
                  <a:srgbClr val="009900"/>
                </a:solidFill>
                <a:latin typeface="Calibri"/>
              </a:rPr>
              <a:t>Problemas a resol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Pouca divulgação dos serviços prestados junto da popul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Burocracia complexa e inacessível a parte da popul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Problemas na comunicação entre as varias entidades envolvidas no combate aos incêndios floresta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600" spc="-1" strike="noStrike">
                <a:solidFill>
                  <a:srgbClr val="009900"/>
                </a:solidFill>
                <a:latin typeface="Calibri"/>
              </a:rPr>
              <a:t>Má divulgação pelos med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Os dados recolhidos estão sob investigação das autoridades policiais, PJ e GNR, ou da PSP se os fogos ocorrerem na área da sua competência territorial, mas também o Grupo de Análise e Uso de Fogo poderá ser empenhado.” </a:t>
            </a: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in Jornal de Noticias 2009-08-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6000" spc="-1" strike="noStrike">
                <a:solidFill>
                  <a:srgbClr val="ffffff"/>
                </a:solidFill>
                <a:latin typeface="Calibri"/>
              </a:rPr>
              <a:t>FI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GIFF – Gestão Integrada de Fogos Florestais</a:t>
            </a:r>
            <a:br>
              <a:rPr sz="3200"/>
            </a:b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Objec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A actividade comercial da sociedade esta vocacionada para a prestação de serviços de consultadoria e operacionalidade 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venção, combate e gestão de fogo floresta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elaboração de projectos, estudos e emissão de pareceres técnicos sobre as causas e consequências do fog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desenvolvimento e implementação de sistemas de informação geográficos nas áreas relacionadas com a prevenção e o combate a incêndios florest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desenvolvimento e comercialização de sistemas, ferramentas e equipamentos relacionados com a prevenção e combate a incêndios florestai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4400" spc="-1" strike="noStrike">
                <a:solidFill>
                  <a:srgbClr val="009900"/>
                </a:solidFill>
                <a:latin typeface="Calibri"/>
              </a:rPr>
              <a:t>Principais cl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8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009900"/>
                </a:solidFill>
                <a:latin typeface="Calibri"/>
              </a:rPr>
              <a:t>Autoridade Florestal Nacion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Elaboração de Planos de Gestão Estratégica de Combustíve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Elaboração e Execução de Planos de Fogo Control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Delimitação da Rede Primária de Faixas de Gestão de Combustí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Grupo de Analise e Uso do Fogo (GAU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Grupo de Especialistas de Fogo Controlado (GEFO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816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Monitorização Aérea Florestal (M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Gestão de Informação da Defesa da Flor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Prevenção Estrutural da Floresta na Área de Prevenção e Controlo de Incêndios Florest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Fitossanidade Flores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0-05-17T09:03:08Z</dcterms:modified>
  <cp:revision>5</cp:revision>
  <dc:subject/>
  <dc:title>Diapositivo 1</dc:title>
</cp:coreProperties>
</file>